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724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0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53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2286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228600"/>
            <a:ext cx="19814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38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581280" y="838080"/>
            <a:ext cx="0" cy="563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95280" y="228600"/>
            <a:ext cx="22100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52280" y="838080"/>
            <a:ext cx="88394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52280" y="228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295280" y="228600"/>
            <a:ext cx="2210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LATED 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010280" y="228600"/>
            <a:ext cx="198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IGINATOR'S REFER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52280" y="380880"/>
            <a:ext cx="1143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295280" y="380880"/>
            <a:ext cx="22100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10280" y="380880"/>
            <a:ext cx="19814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227160"/>
            <a:ext cx="1447920" cy="642600"/>
            <a:chOff x="0" y="227160"/>
            <a:chExt cx="1447920" cy="642600"/>
          </a:xfrm>
        </p:grpSpPr>
        <p:sp>
          <p:nvSpPr>
            <p:cNvPr id="57" name=""/>
            <p:cNvSpPr/>
            <p:nvPr/>
          </p:nvSpPr>
          <p:spPr>
            <a:xfrm>
              <a:off x="210960" y="227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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604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604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451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451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684360"/>
            <a:ext cx="1447920" cy="642600"/>
            <a:chOff x="0" y="684360"/>
            <a:chExt cx="1447920" cy="642600"/>
          </a:xfrm>
        </p:grpSpPr>
        <p:sp>
          <p:nvSpPr>
            <p:cNvPr id="63" name=""/>
            <p:cNvSpPr/>
            <p:nvPr/>
          </p:nvSpPr>
          <p:spPr>
            <a:xfrm>
              <a:off x="210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14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2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338480"/>
            <a:ext cx="1447920" cy="642600"/>
            <a:chOff x="0" y="1338480"/>
            <a:chExt cx="1447920" cy="642600"/>
          </a:xfrm>
        </p:grpSpPr>
        <p:sp>
          <p:nvSpPr>
            <p:cNvPr id="70" name=""/>
            <p:cNvSpPr/>
            <p:nvPr/>
          </p:nvSpPr>
          <p:spPr>
            <a:xfrm>
              <a:off x="210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4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1719360"/>
            <a:ext cx="1447920" cy="642600"/>
            <a:chOff x="0" y="1719360"/>
            <a:chExt cx="1447920" cy="642600"/>
          </a:xfrm>
        </p:grpSpPr>
        <p:sp>
          <p:nvSpPr>
            <p:cNvPr id="76" name=""/>
            <p:cNvSpPr/>
            <p:nvPr/>
          </p:nvSpPr>
          <p:spPr>
            <a:xfrm>
              <a:off x="210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4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0" y="2132280"/>
            <a:ext cx="1447920" cy="642600"/>
            <a:chOff x="0" y="2132280"/>
            <a:chExt cx="1447920" cy="642600"/>
          </a:xfrm>
        </p:grpSpPr>
        <p:sp>
          <p:nvSpPr>
            <p:cNvPr id="82" name=""/>
            <p:cNvSpPr/>
            <p:nvPr/>
          </p:nvSpPr>
          <p:spPr>
            <a:xfrm>
              <a:off x="210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4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0" y="2513160"/>
            <a:ext cx="1447920" cy="642600"/>
            <a:chOff x="0" y="2513160"/>
            <a:chExt cx="1447920" cy="642600"/>
          </a:xfrm>
        </p:grpSpPr>
        <p:sp>
          <p:nvSpPr>
            <p:cNvPr id="88" name=""/>
            <p:cNvSpPr/>
            <p:nvPr/>
          </p:nvSpPr>
          <p:spPr>
            <a:xfrm>
              <a:off x="210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4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2894040"/>
            <a:ext cx="1447920" cy="642600"/>
            <a:chOff x="0" y="2894040"/>
            <a:chExt cx="1447920" cy="642600"/>
          </a:xfrm>
        </p:grpSpPr>
        <p:sp>
          <p:nvSpPr>
            <p:cNvPr id="94" name=""/>
            <p:cNvSpPr/>
            <p:nvPr/>
          </p:nvSpPr>
          <p:spPr>
            <a:xfrm>
              <a:off x="210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3275280"/>
            <a:ext cx="1447920" cy="642600"/>
            <a:chOff x="0" y="3275280"/>
            <a:chExt cx="1447920" cy="642600"/>
          </a:xfrm>
        </p:grpSpPr>
        <p:sp>
          <p:nvSpPr>
            <p:cNvPr id="100" name=""/>
            <p:cNvSpPr/>
            <p:nvPr/>
          </p:nvSpPr>
          <p:spPr>
            <a:xfrm>
              <a:off x="210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668760"/>
            <a:ext cx="1447920" cy="642600"/>
            <a:chOff x="0" y="3668760"/>
            <a:chExt cx="1447920" cy="642600"/>
          </a:xfrm>
        </p:grpSpPr>
        <p:sp>
          <p:nvSpPr>
            <p:cNvPr id="106" name=""/>
            <p:cNvSpPr/>
            <p:nvPr/>
          </p:nvSpPr>
          <p:spPr>
            <a:xfrm>
              <a:off x="210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4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4050000"/>
            <a:ext cx="1447920" cy="642600"/>
            <a:chOff x="0" y="4050000"/>
            <a:chExt cx="1447920" cy="642600"/>
          </a:xfrm>
        </p:grpSpPr>
        <p:sp>
          <p:nvSpPr>
            <p:cNvPr id="112" name=""/>
            <p:cNvSpPr/>
            <p:nvPr/>
          </p:nvSpPr>
          <p:spPr>
            <a:xfrm>
              <a:off x="210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4462560"/>
            <a:ext cx="1447920" cy="642600"/>
            <a:chOff x="0" y="4462560"/>
            <a:chExt cx="1447920" cy="642600"/>
          </a:xfrm>
        </p:grpSpPr>
        <p:sp>
          <p:nvSpPr>
            <p:cNvPr id="118" name=""/>
            <p:cNvSpPr/>
            <p:nvPr/>
          </p:nvSpPr>
          <p:spPr>
            <a:xfrm>
              <a:off x="210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4843440"/>
            <a:ext cx="1447920" cy="642600"/>
            <a:chOff x="0" y="4843440"/>
            <a:chExt cx="1447920" cy="642600"/>
          </a:xfrm>
        </p:grpSpPr>
        <p:sp>
          <p:nvSpPr>
            <p:cNvPr id="124" name=""/>
            <p:cNvSpPr/>
            <p:nvPr/>
          </p:nvSpPr>
          <p:spPr>
            <a:xfrm>
              <a:off x="210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14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0" y="5224680"/>
            <a:ext cx="1447920" cy="642600"/>
            <a:chOff x="0" y="5224680"/>
            <a:chExt cx="1447920" cy="642600"/>
          </a:xfrm>
        </p:grpSpPr>
        <p:sp>
          <p:nvSpPr>
            <p:cNvPr id="130" name=""/>
            <p:cNvSpPr/>
            <p:nvPr/>
          </p:nvSpPr>
          <p:spPr>
            <a:xfrm>
              <a:off x="210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0" y="5605560"/>
            <a:ext cx="1447920" cy="642600"/>
            <a:chOff x="0" y="5605560"/>
            <a:chExt cx="1447920" cy="642600"/>
          </a:xfrm>
        </p:grpSpPr>
        <p:sp>
          <p:nvSpPr>
            <p:cNvPr id="136" name=""/>
            <p:cNvSpPr/>
            <p:nvPr/>
          </p:nvSpPr>
          <p:spPr>
            <a:xfrm>
              <a:off x="210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4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95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3000" y="1338480"/>
            <a:ext cx="1447920" cy="642600"/>
            <a:chOff x="1143000" y="1338480"/>
            <a:chExt cx="1447920" cy="642600"/>
          </a:xfrm>
        </p:grpSpPr>
        <p:sp>
          <p:nvSpPr>
            <p:cNvPr id="143" name=""/>
            <p:cNvSpPr/>
            <p:nvPr/>
          </p:nvSpPr>
          <p:spPr>
            <a:xfrm>
              <a:off x="1353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3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7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3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43000" y="1719360"/>
            <a:ext cx="1447920" cy="642600"/>
            <a:chOff x="1143000" y="1719360"/>
            <a:chExt cx="1447920" cy="642600"/>
          </a:xfrm>
        </p:grpSpPr>
        <p:sp>
          <p:nvSpPr>
            <p:cNvPr id="149" name=""/>
            <p:cNvSpPr/>
            <p:nvPr/>
          </p:nvSpPr>
          <p:spPr>
            <a:xfrm>
              <a:off x="1353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7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143000" y="2132280"/>
            <a:ext cx="1447920" cy="642600"/>
            <a:chOff x="1143000" y="2132280"/>
            <a:chExt cx="1447920" cy="642600"/>
          </a:xfrm>
        </p:grpSpPr>
        <p:sp>
          <p:nvSpPr>
            <p:cNvPr id="155" name=""/>
            <p:cNvSpPr/>
            <p:nvPr/>
          </p:nvSpPr>
          <p:spPr>
            <a:xfrm>
              <a:off x="1353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43000" y="2513160"/>
            <a:ext cx="1447920" cy="642600"/>
            <a:chOff x="1143000" y="2513160"/>
            <a:chExt cx="1447920" cy="642600"/>
          </a:xfrm>
        </p:grpSpPr>
        <p:sp>
          <p:nvSpPr>
            <p:cNvPr id="161" name=""/>
            <p:cNvSpPr/>
            <p:nvPr/>
          </p:nvSpPr>
          <p:spPr>
            <a:xfrm>
              <a:off x="1353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7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57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43000" y="2894040"/>
            <a:ext cx="1447920" cy="642600"/>
            <a:chOff x="1143000" y="2894040"/>
            <a:chExt cx="1447920" cy="642600"/>
          </a:xfrm>
        </p:grpSpPr>
        <p:sp>
          <p:nvSpPr>
            <p:cNvPr id="167" name=""/>
            <p:cNvSpPr/>
            <p:nvPr/>
          </p:nvSpPr>
          <p:spPr>
            <a:xfrm>
              <a:off x="1353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57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43000" y="3275280"/>
            <a:ext cx="1447920" cy="642600"/>
            <a:chOff x="1143000" y="3275280"/>
            <a:chExt cx="1447920" cy="642600"/>
          </a:xfrm>
        </p:grpSpPr>
        <p:sp>
          <p:nvSpPr>
            <p:cNvPr id="173" name=""/>
            <p:cNvSpPr/>
            <p:nvPr/>
          </p:nvSpPr>
          <p:spPr>
            <a:xfrm>
              <a:off x="1353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7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43000" y="3668760"/>
            <a:ext cx="1447920" cy="642600"/>
            <a:chOff x="1143000" y="3668760"/>
            <a:chExt cx="1447920" cy="642600"/>
          </a:xfrm>
        </p:grpSpPr>
        <p:sp>
          <p:nvSpPr>
            <p:cNvPr id="179" name=""/>
            <p:cNvSpPr/>
            <p:nvPr/>
          </p:nvSpPr>
          <p:spPr>
            <a:xfrm>
              <a:off x="1353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7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7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143000" y="4050000"/>
            <a:ext cx="1447920" cy="642600"/>
            <a:chOff x="1143000" y="4050000"/>
            <a:chExt cx="1447920" cy="642600"/>
          </a:xfrm>
        </p:grpSpPr>
        <p:sp>
          <p:nvSpPr>
            <p:cNvPr id="185" name=""/>
            <p:cNvSpPr/>
            <p:nvPr/>
          </p:nvSpPr>
          <p:spPr>
            <a:xfrm>
              <a:off x="1353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7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43000" y="4462560"/>
            <a:ext cx="1447920" cy="642600"/>
            <a:chOff x="1143000" y="4462560"/>
            <a:chExt cx="1447920" cy="642600"/>
          </a:xfrm>
        </p:grpSpPr>
        <p:sp>
          <p:nvSpPr>
            <p:cNvPr id="191" name=""/>
            <p:cNvSpPr/>
            <p:nvPr/>
          </p:nvSpPr>
          <p:spPr>
            <a:xfrm>
              <a:off x="1353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7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43000" y="4843440"/>
            <a:ext cx="1447920" cy="642600"/>
            <a:chOff x="1143000" y="4843440"/>
            <a:chExt cx="1447920" cy="642600"/>
          </a:xfrm>
        </p:grpSpPr>
        <p:sp>
          <p:nvSpPr>
            <p:cNvPr id="197" name=""/>
            <p:cNvSpPr/>
            <p:nvPr/>
          </p:nvSpPr>
          <p:spPr>
            <a:xfrm>
              <a:off x="1353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7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7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43000" y="5224680"/>
            <a:ext cx="1447920" cy="642600"/>
            <a:chOff x="1143000" y="5224680"/>
            <a:chExt cx="1447920" cy="642600"/>
          </a:xfrm>
        </p:grpSpPr>
        <p:sp>
          <p:nvSpPr>
            <p:cNvPr id="203" name=""/>
            <p:cNvSpPr/>
            <p:nvPr/>
          </p:nvSpPr>
          <p:spPr>
            <a:xfrm>
              <a:off x="1353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143000" y="5605560"/>
            <a:ext cx="1447920" cy="642600"/>
            <a:chOff x="1143000" y="5605560"/>
            <a:chExt cx="1447920" cy="642600"/>
          </a:xfrm>
        </p:grpSpPr>
        <p:sp>
          <p:nvSpPr>
            <p:cNvPr id="209" name=""/>
            <p:cNvSpPr/>
            <p:nvPr/>
          </p:nvSpPr>
          <p:spPr>
            <a:xfrm>
              <a:off x="1353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438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1338480"/>
            <a:ext cx="1447920" cy="642600"/>
            <a:chOff x="2286000" y="1338480"/>
            <a:chExt cx="1447920" cy="642600"/>
          </a:xfrm>
        </p:grpSpPr>
        <p:sp>
          <p:nvSpPr>
            <p:cNvPr id="216" name=""/>
            <p:cNvSpPr/>
            <p:nvPr/>
          </p:nvSpPr>
          <p:spPr>
            <a:xfrm>
              <a:off x="2496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6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286000" y="1719360"/>
            <a:ext cx="1447920" cy="642600"/>
            <a:chOff x="2286000" y="1719360"/>
            <a:chExt cx="1447920" cy="642600"/>
          </a:xfrm>
        </p:grpSpPr>
        <p:sp>
          <p:nvSpPr>
            <p:cNvPr id="222" name=""/>
            <p:cNvSpPr/>
            <p:nvPr/>
          </p:nvSpPr>
          <p:spPr>
            <a:xfrm>
              <a:off x="2496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0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286000" y="2132280"/>
            <a:ext cx="1447920" cy="642600"/>
            <a:chOff x="2286000" y="2132280"/>
            <a:chExt cx="1447920" cy="642600"/>
          </a:xfrm>
        </p:grpSpPr>
        <p:sp>
          <p:nvSpPr>
            <p:cNvPr id="228" name=""/>
            <p:cNvSpPr/>
            <p:nvPr/>
          </p:nvSpPr>
          <p:spPr>
            <a:xfrm>
              <a:off x="2496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86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0" y="2513160"/>
            <a:ext cx="1447920" cy="642600"/>
            <a:chOff x="2286000" y="2513160"/>
            <a:chExt cx="1447920" cy="642600"/>
          </a:xfrm>
        </p:grpSpPr>
        <p:sp>
          <p:nvSpPr>
            <p:cNvPr id="234" name=""/>
            <p:cNvSpPr/>
            <p:nvPr/>
          </p:nvSpPr>
          <p:spPr>
            <a:xfrm>
              <a:off x="2496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286000" y="2894040"/>
            <a:ext cx="1447920" cy="642600"/>
            <a:chOff x="2286000" y="2894040"/>
            <a:chExt cx="1447920" cy="642600"/>
          </a:xfrm>
        </p:grpSpPr>
        <p:sp>
          <p:nvSpPr>
            <p:cNvPr id="240" name=""/>
            <p:cNvSpPr/>
            <p:nvPr/>
          </p:nvSpPr>
          <p:spPr>
            <a:xfrm>
              <a:off x="2496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286000" y="3275280"/>
            <a:ext cx="1447920" cy="642600"/>
            <a:chOff x="2286000" y="3275280"/>
            <a:chExt cx="1447920" cy="642600"/>
          </a:xfrm>
        </p:grpSpPr>
        <p:sp>
          <p:nvSpPr>
            <p:cNvPr id="246" name=""/>
            <p:cNvSpPr/>
            <p:nvPr/>
          </p:nvSpPr>
          <p:spPr>
            <a:xfrm>
              <a:off x="2496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00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86000" y="3668760"/>
            <a:ext cx="1447920" cy="642600"/>
            <a:chOff x="2286000" y="3668760"/>
            <a:chExt cx="1447920" cy="642600"/>
          </a:xfrm>
        </p:grpSpPr>
        <p:sp>
          <p:nvSpPr>
            <p:cNvPr id="252" name=""/>
            <p:cNvSpPr/>
            <p:nvPr/>
          </p:nvSpPr>
          <p:spPr>
            <a:xfrm>
              <a:off x="2496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00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0" y="4050000"/>
            <a:ext cx="1447920" cy="642600"/>
            <a:chOff x="2286000" y="4050000"/>
            <a:chExt cx="1447920" cy="642600"/>
          </a:xfrm>
        </p:grpSpPr>
        <p:sp>
          <p:nvSpPr>
            <p:cNvPr id="258" name=""/>
            <p:cNvSpPr/>
            <p:nvPr/>
          </p:nvSpPr>
          <p:spPr>
            <a:xfrm>
              <a:off x="2496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00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286000" y="4462560"/>
            <a:ext cx="1447920" cy="642600"/>
            <a:chOff x="2286000" y="4462560"/>
            <a:chExt cx="1447920" cy="642600"/>
          </a:xfrm>
        </p:grpSpPr>
        <p:sp>
          <p:nvSpPr>
            <p:cNvPr id="264" name=""/>
            <p:cNvSpPr/>
            <p:nvPr/>
          </p:nvSpPr>
          <p:spPr>
            <a:xfrm>
              <a:off x="2496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0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0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286000" y="4843440"/>
            <a:ext cx="1447920" cy="642600"/>
            <a:chOff x="2286000" y="4843440"/>
            <a:chExt cx="1447920" cy="642600"/>
          </a:xfrm>
        </p:grpSpPr>
        <p:sp>
          <p:nvSpPr>
            <p:cNvPr id="270" name=""/>
            <p:cNvSpPr/>
            <p:nvPr/>
          </p:nvSpPr>
          <p:spPr>
            <a:xfrm>
              <a:off x="2496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0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0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286000" y="5224680"/>
            <a:ext cx="1447920" cy="642600"/>
            <a:chOff x="2286000" y="5224680"/>
            <a:chExt cx="1447920" cy="642600"/>
          </a:xfrm>
        </p:grpSpPr>
        <p:sp>
          <p:nvSpPr>
            <p:cNvPr id="276" name=""/>
            <p:cNvSpPr/>
            <p:nvPr/>
          </p:nvSpPr>
          <p:spPr>
            <a:xfrm>
              <a:off x="2496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00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00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286000" y="5605560"/>
            <a:ext cx="1447920" cy="642600"/>
            <a:chOff x="2286000" y="5605560"/>
            <a:chExt cx="1447920" cy="642600"/>
          </a:xfrm>
        </p:grpSpPr>
        <p:sp>
          <p:nvSpPr>
            <p:cNvPr id="282" name=""/>
            <p:cNvSpPr/>
            <p:nvPr/>
          </p:nvSpPr>
          <p:spPr>
            <a:xfrm>
              <a:off x="2496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0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0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581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429000" y="1338480"/>
            <a:ext cx="1447920" cy="642600"/>
            <a:chOff x="3429000" y="1338480"/>
            <a:chExt cx="1447920" cy="642600"/>
          </a:xfrm>
        </p:grpSpPr>
        <p:sp>
          <p:nvSpPr>
            <p:cNvPr id="289" name=""/>
            <p:cNvSpPr/>
            <p:nvPr/>
          </p:nvSpPr>
          <p:spPr>
            <a:xfrm>
              <a:off x="3639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29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429000" y="1719360"/>
            <a:ext cx="1447920" cy="642600"/>
            <a:chOff x="3429000" y="1719360"/>
            <a:chExt cx="1447920" cy="642600"/>
          </a:xfrm>
        </p:grpSpPr>
        <p:sp>
          <p:nvSpPr>
            <p:cNvPr id="295" name=""/>
            <p:cNvSpPr/>
            <p:nvPr/>
          </p:nvSpPr>
          <p:spPr>
            <a:xfrm>
              <a:off x="3639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29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29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429000" y="2132280"/>
            <a:ext cx="1447920" cy="642600"/>
            <a:chOff x="3429000" y="2132280"/>
            <a:chExt cx="1447920" cy="642600"/>
          </a:xfrm>
        </p:grpSpPr>
        <p:sp>
          <p:nvSpPr>
            <p:cNvPr id="301" name=""/>
            <p:cNvSpPr/>
            <p:nvPr/>
          </p:nvSpPr>
          <p:spPr>
            <a:xfrm>
              <a:off x="3639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3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29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429000" y="2513160"/>
            <a:ext cx="1447920" cy="642600"/>
            <a:chOff x="3429000" y="2513160"/>
            <a:chExt cx="1447920" cy="642600"/>
          </a:xfrm>
        </p:grpSpPr>
        <p:sp>
          <p:nvSpPr>
            <p:cNvPr id="307" name=""/>
            <p:cNvSpPr/>
            <p:nvPr/>
          </p:nvSpPr>
          <p:spPr>
            <a:xfrm>
              <a:off x="3639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29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3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29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29000" y="2894040"/>
            <a:ext cx="1447920" cy="642600"/>
            <a:chOff x="3429000" y="2894040"/>
            <a:chExt cx="1447920" cy="642600"/>
          </a:xfrm>
        </p:grpSpPr>
        <p:sp>
          <p:nvSpPr>
            <p:cNvPr id="313" name=""/>
            <p:cNvSpPr/>
            <p:nvPr/>
          </p:nvSpPr>
          <p:spPr>
            <a:xfrm>
              <a:off x="3639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3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29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9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429000" y="3275280"/>
            <a:ext cx="1447920" cy="642600"/>
            <a:chOff x="3429000" y="3275280"/>
            <a:chExt cx="1447920" cy="642600"/>
          </a:xfrm>
        </p:grpSpPr>
        <p:sp>
          <p:nvSpPr>
            <p:cNvPr id="319" name=""/>
            <p:cNvSpPr/>
            <p:nvPr/>
          </p:nvSpPr>
          <p:spPr>
            <a:xfrm>
              <a:off x="3639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43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9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29000" y="3668760"/>
            <a:ext cx="1447920" cy="642600"/>
            <a:chOff x="3429000" y="3668760"/>
            <a:chExt cx="1447920" cy="642600"/>
          </a:xfrm>
        </p:grpSpPr>
        <p:sp>
          <p:nvSpPr>
            <p:cNvPr id="325" name=""/>
            <p:cNvSpPr/>
            <p:nvPr/>
          </p:nvSpPr>
          <p:spPr>
            <a:xfrm>
              <a:off x="3639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29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429000" y="4050000"/>
            <a:ext cx="1447920" cy="642600"/>
            <a:chOff x="3429000" y="4050000"/>
            <a:chExt cx="1447920" cy="642600"/>
          </a:xfrm>
        </p:grpSpPr>
        <p:sp>
          <p:nvSpPr>
            <p:cNvPr id="331" name=""/>
            <p:cNvSpPr/>
            <p:nvPr/>
          </p:nvSpPr>
          <p:spPr>
            <a:xfrm>
              <a:off x="3639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3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9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429000" y="4462560"/>
            <a:ext cx="1447920" cy="642600"/>
            <a:chOff x="3429000" y="4462560"/>
            <a:chExt cx="1447920" cy="642600"/>
          </a:xfrm>
        </p:grpSpPr>
        <p:sp>
          <p:nvSpPr>
            <p:cNvPr id="337" name=""/>
            <p:cNvSpPr/>
            <p:nvPr/>
          </p:nvSpPr>
          <p:spPr>
            <a:xfrm>
              <a:off x="3639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43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29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3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429000" y="4843440"/>
            <a:ext cx="1447920" cy="642600"/>
            <a:chOff x="3429000" y="4843440"/>
            <a:chExt cx="1447920" cy="642600"/>
          </a:xfrm>
        </p:grpSpPr>
        <p:sp>
          <p:nvSpPr>
            <p:cNvPr id="343" name=""/>
            <p:cNvSpPr/>
            <p:nvPr/>
          </p:nvSpPr>
          <p:spPr>
            <a:xfrm>
              <a:off x="3639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9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429000" y="5224680"/>
            <a:ext cx="1447920" cy="642600"/>
            <a:chOff x="3429000" y="5224680"/>
            <a:chExt cx="1447920" cy="642600"/>
          </a:xfrm>
        </p:grpSpPr>
        <p:sp>
          <p:nvSpPr>
            <p:cNvPr id="349" name=""/>
            <p:cNvSpPr/>
            <p:nvPr/>
          </p:nvSpPr>
          <p:spPr>
            <a:xfrm>
              <a:off x="3639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9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9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429000" y="5605560"/>
            <a:ext cx="1447920" cy="642600"/>
            <a:chOff x="3429000" y="5605560"/>
            <a:chExt cx="1447920" cy="642600"/>
          </a:xfrm>
        </p:grpSpPr>
        <p:sp>
          <p:nvSpPr>
            <p:cNvPr id="355" name=""/>
            <p:cNvSpPr/>
            <p:nvPr/>
          </p:nvSpPr>
          <p:spPr>
            <a:xfrm>
              <a:off x="3639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29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3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9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724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572000" y="1338480"/>
            <a:ext cx="1447920" cy="642600"/>
            <a:chOff x="4572000" y="1338480"/>
            <a:chExt cx="1447920" cy="642600"/>
          </a:xfrm>
        </p:grpSpPr>
        <p:sp>
          <p:nvSpPr>
            <p:cNvPr id="362" name=""/>
            <p:cNvSpPr/>
            <p:nvPr/>
          </p:nvSpPr>
          <p:spPr>
            <a:xfrm>
              <a:off x="4782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86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572000" y="1719360"/>
            <a:ext cx="1447920" cy="642600"/>
            <a:chOff x="4572000" y="1719360"/>
            <a:chExt cx="1447920" cy="642600"/>
          </a:xfrm>
        </p:grpSpPr>
        <p:sp>
          <p:nvSpPr>
            <p:cNvPr id="368" name=""/>
            <p:cNvSpPr/>
            <p:nvPr/>
          </p:nvSpPr>
          <p:spPr>
            <a:xfrm>
              <a:off x="4782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6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2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86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572000" y="2132280"/>
            <a:ext cx="1447920" cy="642600"/>
            <a:chOff x="4572000" y="2132280"/>
            <a:chExt cx="1447920" cy="642600"/>
          </a:xfrm>
        </p:grpSpPr>
        <p:sp>
          <p:nvSpPr>
            <p:cNvPr id="374" name=""/>
            <p:cNvSpPr/>
            <p:nvPr/>
          </p:nvSpPr>
          <p:spPr>
            <a:xfrm>
              <a:off x="4782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6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572000" y="2513160"/>
            <a:ext cx="1447920" cy="642600"/>
            <a:chOff x="4572000" y="2513160"/>
            <a:chExt cx="1447920" cy="642600"/>
          </a:xfrm>
        </p:grpSpPr>
        <p:sp>
          <p:nvSpPr>
            <p:cNvPr id="380" name=""/>
            <p:cNvSpPr/>
            <p:nvPr/>
          </p:nvSpPr>
          <p:spPr>
            <a:xfrm>
              <a:off x="4782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6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2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2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2000" y="2894040"/>
            <a:ext cx="1447920" cy="642600"/>
            <a:chOff x="4572000" y="2894040"/>
            <a:chExt cx="1447920" cy="642600"/>
          </a:xfrm>
        </p:grpSpPr>
        <p:sp>
          <p:nvSpPr>
            <p:cNvPr id="386" name=""/>
            <p:cNvSpPr/>
            <p:nvPr/>
          </p:nvSpPr>
          <p:spPr>
            <a:xfrm>
              <a:off x="4782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6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2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6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572000" y="3275280"/>
            <a:ext cx="1447920" cy="642600"/>
            <a:chOff x="4572000" y="3275280"/>
            <a:chExt cx="1447920" cy="642600"/>
          </a:xfrm>
        </p:grpSpPr>
        <p:sp>
          <p:nvSpPr>
            <p:cNvPr id="392" name=""/>
            <p:cNvSpPr/>
            <p:nvPr/>
          </p:nvSpPr>
          <p:spPr>
            <a:xfrm>
              <a:off x="4782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3668760"/>
            <a:ext cx="1447920" cy="642600"/>
            <a:chOff x="4572000" y="3668760"/>
            <a:chExt cx="1447920" cy="642600"/>
          </a:xfrm>
        </p:grpSpPr>
        <p:sp>
          <p:nvSpPr>
            <p:cNvPr id="398" name=""/>
            <p:cNvSpPr/>
            <p:nvPr/>
          </p:nvSpPr>
          <p:spPr>
            <a:xfrm>
              <a:off x="4782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86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2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6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72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572000" y="4050000"/>
            <a:ext cx="1447920" cy="642600"/>
            <a:chOff x="4572000" y="4050000"/>
            <a:chExt cx="1447920" cy="642600"/>
          </a:xfrm>
        </p:grpSpPr>
        <p:sp>
          <p:nvSpPr>
            <p:cNvPr id="404" name=""/>
            <p:cNvSpPr/>
            <p:nvPr/>
          </p:nvSpPr>
          <p:spPr>
            <a:xfrm>
              <a:off x="4782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2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6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572000" y="4462560"/>
            <a:ext cx="1447920" cy="642600"/>
            <a:chOff x="4572000" y="4462560"/>
            <a:chExt cx="1447920" cy="642600"/>
          </a:xfrm>
        </p:grpSpPr>
        <p:sp>
          <p:nvSpPr>
            <p:cNvPr id="410" name=""/>
            <p:cNvSpPr/>
            <p:nvPr/>
          </p:nvSpPr>
          <p:spPr>
            <a:xfrm>
              <a:off x="4782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2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86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72000" y="4843440"/>
            <a:ext cx="1447920" cy="642600"/>
            <a:chOff x="4572000" y="4843440"/>
            <a:chExt cx="1447920" cy="642600"/>
          </a:xfrm>
        </p:grpSpPr>
        <p:sp>
          <p:nvSpPr>
            <p:cNvPr id="416" name=""/>
            <p:cNvSpPr/>
            <p:nvPr/>
          </p:nvSpPr>
          <p:spPr>
            <a:xfrm>
              <a:off x="4782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86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72000" y="5224680"/>
            <a:ext cx="1447920" cy="642600"/>
            <a:chOff x="4572000" y="5224680"/>
            <a:chExt cx="1447920" cy="642600"/>
          </a:xfrm>
        </p:grpSpPr>
        <p:sp>
          <p:nvSpPr>
            <p:cNvPr id="422" name=""/>
            <p:cNvSpPr/>
            <p:nvPr/>
          </p:nvSpPr>
          <p:spPr>
            <a:xfrm>
              <a:off x="4782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6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2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572000" y="5605560"/>
            <a:ext cx="1447920" cy="642600"/>
            <a:chOff x="4572000" y="5605560"/>
            <a:chExt cx="1447920" cy="642600"/>
          </a:xfrm>
        </p:grpSpPr>
        <p:sp>
          <p:nvSpPr>
            <p:cNvPr id="428" name=""/>
            <p:cNvSpPr/>
            <p:nvPr/>
          </p:nvSpPr>
          <p:spPr>
            <a:xfrm>
              <a:off x="4782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6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2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867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715000" y="1338480"/>
            <a:ext cx="1447920" cy="642600"/>
            <a:chOff x="5715000" y="1338480"/>
            <a:chExt cx="1447920" cy="642600"/>
          </a:xfrm>
        </p:grpSpPr>
        <p:sp>
          <p:nvSpPr>
            <p:cNvPr id="435" name=""/>
            <p:cNvSpPr/>
            <p:nvPr/>
          </p:nvSpPr>
          <p:spPr>
            <a:xfrm>
              <a:off x="5925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29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29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5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715000" y="1719360"/>
            <a:ext cx="1447920" cy="642600"/>
            <a:chOff x="5715000" y="1719360"/>
            <a:chExt cx="1447920" cy="642600"/>
          </a:xfrm>
        </p:grpSpPr>
        <p:sp>
          <p:nvSpPr>
            <p:cNvPr id="441" name=""/>
            <p:cNvSpPr/>
            <p:nvPr/>
          </p:nvSpPr>
          <p:spPr>
            <a:xfrm>
              <a:off x="5925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29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5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9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715000" y="2132280"/>
            <a:ext cx="1447920" cy="642600"/>
            <a:chOff x="5715000" y="2132280"/>
            <a:chExt cx="1447920" cy="642600"/>
          </a:xfrm>
        </p:grpSpPr>
        <p:sp>
          <p:nvSpPr>
            <p:cNvPr id="447" name=""/>
            <p:cNvSpPr/>
            <p:nvPr/>
          </p:nvSpPr>
          <p:spPr>
            <a:xfrm>
              <a:off x="5925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15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29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15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715000" y="2513160"/>
            <a:ext cx="1447920" cy="642600"/>
            <a:chOff x="5715000" y="2513160"/>
            <a:chExt cx="1447920" cy="642600"/>
          </a:xfrm>
        </p:grpSpPr>
        <p:sp>
          <p:nvSpPr>
            <p:cNvPr id="453" name=""/>
            <p:cNvSpPr/>
            <p:nvPr/>
          </p:nvSpPr>
          <p:spPr>
            <a:xfrm>
              <a:off x="5925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29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15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9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5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715000" y="2894040"/>
            <a:ext cx="1447920" cy="642600"/>
            <a:chOff x="5715000" y="2894040"/>
            <a:chExt cx="1447920" cy="642600"/>
          </a:xfrm>
        </p:grpSpPr>
        <p:sp>
          <p:nvSpPr>
            <p:cNvPr id="459" name=""/>
            <p:cNvSpPr/>
            <p:nvPr/>
          </p:nvSpPr>
          <p:spPr>
            <a:xfrm>
              <a:off x="5925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29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15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9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15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15000" y="3275280"/>
            <a:ext cx="1447920" cy="642600"/>
            <a:chOff x="5715000" y="3275280"/>
            <a:chExt cx="1447920" cy="642600"/>
          </a:xfrm>
        </p:grpSpPr>
        <p:sp>
          <p:nvSpPr>
            <p:cNvPr id="465" name=""/>
            <p:cNvSpPr/>
            <p:nvPr/>
          </p:nvSpPr>
          <p:spPr>
            <a:xfrm>
              <a:off x="5925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29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15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29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15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715000" y="3668760"/>
            <a:ext cx="1447920" cy="642600"/>
            <a:chOff x="5715000" y="3668760"/>
            <a:chExt cx="1447920" cy="642600"/>
          </a:xfrm>
        </p:grpSpPr>
        <p:sp>
          <p:nvSpPr>
            <p:cNvPr id="471" name=""/>
            <p:cNvSpPr/>
            <p:nvPr/>
          </p:nvSpPr>
          <p:spPr>
            <a:xfrm>
              <a:off x="5925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15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9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15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715000" y="4050000"/>
            <a:ext cx="1447920" cy="642600"/>
            <a:chOff x="5715000" y="4050000"/>
            <a:chExt cx="1447920" cy="642600"/>
          </a:xfrm>
        </p:grpSpPr>
        <p:sp>
          <p:nvSpPr>
            <p:cNvPr id="477" name=""/>
            <p:cNvSpPr/>
            <p:nvPr/>
          </p:nvSpPr>
          <p:spPr>
            <a:xfrm>
              <a:off x="5925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29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15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29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15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715000" y="4462560"/>
            <a:ext cx="1447920" cy="642600"/>
            <a:chOff x="5715000" y="4462560"/>
            <a:chExt cx="1447920" cy="642600"/>
          </a:xfrm>
        </p:grpSpPr>
        <p:sp>
          <p:nvSpPr>
            <p:cNvPr id="483" name=""/>
            <p:cNvSpPr/>
            <p:nvPr/>
          </p:nvSpPr>
          <p:spPr>
            <a:xfrm>
              <a:off x="5925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9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15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9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15000" y="4843440"/>
            <a:ext cx="1447920" cy="642600"/>
            <a:chOff x="5715000" y="4843440"/>
            <a:chExt cx="1447920" cy="642600"/>
          </a:xfrm>
        </p:grpSpPr>
        <p:sp>
          <p:nvSpPr>
            <p:cNvPr id="489" name=""/>
            <p:cNvSpPr/>
            <p:nvPr/>
          </p:nvSpPr>
          <p:spPr>
            <a:xfrm>
              <a:off x="5925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29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5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29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15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715000" y="5224680"/>
            <a:ext cx="1447920" cy="642600"/>
            <a:chOff x="5715000" y="5224680"/>
            <a:chExt cx="1447920" cy="642600"/>
          </a:xfrm>
        </p:grpSpPr>
        <p:sp>
          <p:nvSpPr>
            <p:cNvPr id="495" name=""/>
            <p:cNvSpPr/>
            <p:nvPr/>
          </p:nvSpPr>
          <p:spPr>
            <a:xfrm>
              <a:off x="5925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15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29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5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715000" y="5605560"/>
            <a:ext cx="1447920" cy="642600"/>
            <a:chOff x="5715000" y="5605560"/>
            <a:chExt cx="1447920" cy="642600"/>
          </a:xfrm>
        </p:grpSpPr>
        <p:sp>
          <p:nvSpPr>
            <p:cNvPr id="501" name=""/>
            <p:cNvSpPr/>
            <p:nvPr/>
          </p:nvSpPr>
          <p:spPr>
            <a:xfrm>
              <a:off x="5925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29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15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15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010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58000" y="1338480"/>
            <a:ext cx="1447920" cy="642600"/>
            <a:chOff x="6858000" y="1338480"/>
            <a:chExt cx="1447920" cy="642600"/>
          </a:xfrm>
        </p:grpSpPr>
        <p:sp>
          <p:nvSpPr>
            <p:cNvPr id="508" name=""/>
            <p:cNvSpPr/>
            <p:nvPr/>
          </p:nvSpPr>
          <p:spPr>
            <a:xfrm>
              <a:off x="7068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72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724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0" y="1563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858000" y="1719360"/>
            <a:ext cx="1447920" cy="642600"/>
            <a:chOff x="6858000" y="1719360"/>
            <a:chExt cx="1447920" cy="642600"/>
          </a:xfrm>
        </p:grpSpPr>
        <p:sp>
          <p:nvSpPr>
            <p:cNvPr id="514" name=""/>
            <p:cNvSpPr/>
            <p:nvPr/>
          </p:nvSpPr>
          <p:spPr>
            <a:xfrm>
              <a:off x="7068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72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58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72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580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858000" y="2132280"/>
            <a:ext cx="1447920" cy="642600"/>
            <a:chOff x="6858000" y="2132280"/>
            <a:chExt cx="1447920" cy="642600"/>
          </a:xfrm>
        </p:grpSpPr>
        <p:sp>
          <p:nvSpPr>
            <p:cNvPr id="520" name=""/>
            <p:cNvSpPr/>
            <p:nvPr/>
          </p:nvSpPr>
          <p:spPr>
            <a:xfrm>
              <a:off x="7068960" y="2132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724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8000" y="2509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724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58000" y="235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858000" y="2513160"/>
            <a:ext cx="1447920" cy="642600"/>
            <a:chOff x="6858000" y="2513160"/>
            <a:chExt cx="1447920" cy="642600"/>
          </a:xfrm>
        </p:grpSpPr>
        <p:sp>
          <p:nvSpPr>
            <p:cNvPr id="526" name=""/>
            <p:cNvSpPr/>
            <p:nvPr/>
          </p:nvSpPr>
          <p:spPr>
            <a:xfrm>
              <a:off x="7068960" y="2513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724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8000" y="2890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724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0" y="27378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0" y="2894040"/>
            <a:ext cx="1447920" cy="642600"/>
            <a:chOff x="6858000" y="2894040"/>
            <a:chExt cx="1447920" cy="642600"/>
          </a:xfrm>
        </p:grpSpPr>
        <p:sp>
          <p:nvSpPr>
            <p:cNvPr id="532" name=""/>
            <p:cNvSpPr/>
            <p:nvPr/>
          </p:nvSpPr>
          <p:spPr>
            <a:xfrm>
              <a:off x="7068960" y="28940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724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0" y="32709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724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3118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858000" y="3275280"/>
            <a:ext cx="1447920" cy="642600"/>
            <a:chOff x="6858000" y="3275280"/>
            <a:chExt cx="1447920" cy="642600"/>
          </a:xfrm>
        </p:grpSpPr>
        <p:sp>
          <p:nvSpPr>
            <p:cNvPr id="538" name=""/>
            <p:cNvSpPr/>
            <p:nvPr/>
          </p:nvSpPr>
          <p:spPr>
            <a:xfrm>
              <a:off x="7068960" y="3275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24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58000" y="3652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724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0" y="3499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858000" y="3668760"/>
            <a:ext cx="1447920" cy="642600"/>
            <a:chOff x="6858000" y="3668760"/>
            <a:chExt cx="1447920" cy="642600"/>
          </a:xfrm>
        </p:grpSpPr>
        <p:sp>
          <p:nvSpPr>
            <p:cNvPr id="544" name=""/>
            <p:cNvSpPr/>
            <p:nvPr/>
          </p:nvSpPr>
          <p:spPr>
            <a:xfrm>
              <a:off x="7068960" y="36687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24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40456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724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58000" y="3893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58000" y="4050000"/>
            <a:ext cx="1447920" cy="642600"/>
            <a:chOff x="6858000" y="4050000"/>
            <a:chExt cx="1447920" cy="642600"/>
          </a:xfrm>
        </p:grpSpPr>
        <p:sp>
          <p:nvSpPr>
            <p:cNvPr id="550" name=""/>
            <p:cNvSpPr/>
            <p:nvPr/>
          </p:nvSpPr>
          <p:spPr>
            <a:xfrm>
              <a:off x="7068960" y="405000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724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0" y="44269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724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58000" y="427464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858000" y="4462560"/>
            <a:ext cx="1447920" cy="642600"/>
            <a:chOff x="6858000" y="4462560"/>
            <a:chExt cx="1447920" cy="642600"/>
          </a:xfrm>
        </p:grpSpPr>
        <p:sp>
          <p:nvSpPr>
            <p:cNvPr id="556" name=""/>
            <p:cNvSpPr/>
            <p:nvPr/>
          </p:nvSpPr>
          <p:spPr>
            <a:xfrm>
              <a:off x="7068960" y="4462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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724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0" y="4839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724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0" y="4687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58000" y="4843440"/>
            <a:ext cx="1447920" cy="642600"/>
            <a:chOff x="6858000" y="4843440"/>
            <a:chExt cx="1447920" cy="642600"/>
          </a:xfrm>
        </p:grpSpPr>
        <p:sp>
          <p:nvSpPr>
            <p:cNvPr id="562" name=""/>
            <p:cNvSpPr/>
            <p:nvPr/>
          </p:nvSpPr>
          <p:spPr>
            <a:xfrm>
              <a:off x="7068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72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724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5068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858000" y="5224680"/>
            <a:ext cx="1447920" cy="642600"/>
            <a:chOff x="6858000" y="5224680"/>
            <a:chExt cx="1447920" cy="642600"/>
          </a:xfrm>
        </p:grpSpPr>
        <p:sp>
          <p:nvSpPr>
            <p:cNvPr id="568" name=""/>
            <p:cNvSpPr/>
            <p:nvPr/>
          </p:nvSpPr>
          <p:spPr>
            <a:xfrm>
              <a:off x="7068960" y="52246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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724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56016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724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0" y="54493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858000" y="5605560"/>
            <a:ext cx="1447920" cy="642600"/>
            <a:chOff x="6858000" y="5605560"/>
            <a:chExt cx="1447920" cy="642600"/>
          </a:xfrm>
        </p:grpSpPr>
        <p:sp>
          <p:nvSpPr>
            <p:cNvPr id="574" name=""/>
            <p:cNvSpPr/>
            <p:nvPr/>
          </p:nvSpPr>
          <p:spPr>
            <a:xfrm>
              <a:off x="7068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72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724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58000" y="5830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010280" y="838080"/>
            <a:ext cx="1143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S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67280" y="838080"/>
            <a:ext cx="1143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V TROO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53280" y="838080"/>
            <a:ext cx="8384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3808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NEX A TO HQ 1(UK) ARMD DI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 EXAMPLE OPO 001/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TG 01 1500 Z JAN 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3000" y="684360"/>
            <a:ext cx="1447920" cy="642600"/>
            <a:chOff x="1143000" y="684360"/>
            <a:chExt cx="1447920" cy="642600"/>
          </a:xfrm>
        </p:grpSpPr>
        <p:sp>
          <p:nvSpPr>
            <p:cNvPr id="584" name=""/>
            <p:cNvSpPr/>
            <p:nvPr/>
          </p:nvSpPr>
          <p:spPr>
            <a:xfrm>
              <a:off x="1353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43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57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430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286000" y="684360"/>
            <a:ext cx="1447920" cy="642600"/>
            <a:chOff x="2286000" y="684360"/>
            <a:chExt cx="1447920" cy="642600"/>
          </a:xfrm>
        </p:grpSpPr>
        <p:sp>
          <p:nvSpPr>
            <p:cNvPr id="590" name=""/>
            <p:cNvSpPr/>
            <p:nvPr/>
          </p:nvSpPr>
          <p:spPr>
            <a:xfrm>
              <a:off x="2496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00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00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429000" y="684360"/>
            <a:ext cx="1447920" cy="642600"/>
            <a:chOff x="3429000" y="684360"/>
            <a:chExt cx="1447920" cy="642600"/>
          </a:xfrm>
        </p:grpSpPr>
        <p:sp>
          <p:nvSpPr>
            <p:cNvPr id="596" name=""/>
            <p:cNvSpPr/>
            <p:nvPr/>
          </p:nvSpPr>
          <p:spPr>
            <a:xfrm>
              <a:off x="3639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43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29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43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290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572000" y="684360"/>
            <a:ext cx="1447920" cy="642600"/>
            <a:chOff x="4572000" y="684360"/>
            <a:chExt cx="1447920" cy="642600"/>
          </a:xfrm>
        </p:grpSpPr>
        <p:sp>
          <p:nvSpPr>
            <p:cNvPr id="602" name=""/>
            <p:cNvSpPr/>
            <p:nvPr/>
          </p:nvSpPr>
          <p:spPr>
            <a:xfrm>
              <a:off x="4782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345678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8153280" y="1295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153280" y="1676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2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2057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3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153280" y="2438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4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153280" y="2819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5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53280" y="3200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6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153280" y="3581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7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153280" y="3962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8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153280" y="4343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9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4724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0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153280" y="5105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1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53280" y="5486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2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153280" y="5867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3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GE # OF #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3808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 EXAMPLE OPO 001/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05320" y="2286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0" y="227160"/>
            <a:ext cx="1447920" cy="642600"/>
            <a:chOff x="0" y="227160"/>
            <a:chExt cx="1447920" cy="642600"/>
          </a:xfrm>
        </p:grpSpPr>
        <p:sp>
          <p:nvSpPr>
            <p:cNvPr id="625" name=""/>
            <p:cNvSpPr/>
            <p:nvPr/>
          </p:nvSpPr>
          <p:spPr>
            <a:xfrm>
              <a:off x="210960" y="2271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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14400" y="603360"/>
              <a:ext cx="533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6040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4400" y="4507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4507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0" y="684360"/>
            <a:ext cx="1447920" cy="642600"/>
            <a:chOff x="0" y="684360"/>
            <a:chExt cx="1447920" cy="642600"/>
          </a:xfrm>
        </p:grpSpPr>
        <p:sp>
          <p:nvSpPr>
            <p:cNvPr id="631" name=""/>
            <p:cNvSpPr/>
            <p:nvPr/>
          </p:nvSpPr>
          <p:spPr>
            <a:xfrm>
              <a:off x="210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14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144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52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95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81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10280" y="122472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0" y="1338480"/>
            <a:ext cx="1447920" cy="642600"/>
            <a:chOff x="0" y="1338480"/>
            <a:chExt cx="1447920" cy="642600"/>
          </a:xfrm>
        </p:grpSpPr>
        <p:sp>
          <p:nvSpPr>
            <p:cNvPr id="644" name=""/>
            <p:cNvSpPr/>
            <p:nvPr/>
          </p:nvSpPr>
          <p:spPr>
            <a:xfrm>
              <a:off x="210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14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1623960"/>
              <a:ext cx="533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CO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0" y="1719360"/>
            <a:ext cx="1447920" cy="642600"/>
            <a:chOff x="0" y="1719360"/>
            <a:chExt cx="1447920" cy="642600"/>
          </a:xfrm>
        </p:grpSpPr>
        <p:sp>
          <p:nvSpPr>
            <p:cNvPr id="650" name=""/>
            <p:cNvSpPr/>
            <p:nvPr/>
          </p:nvSpPr>
          <p:spPr>
            <a:xfrm>
              <a:off x="210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14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RT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14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0" y="2100240"/>
            <a:ext cx="1447920" cy="642600"/>
            <a:chOff x="0" y="2100240"/>
            <a:chExt cx="1447920" cy="642600"/>
          </a:xfrm>
        </p:grpSpPr>
        <p:sp>
          <p:nvSpPr>
            <p:cNvPr id="656" name=""/>
            <p:cNvSpPr/>
            <p:nvPr/>
          </p:nvSpPr>
          <p:spPr>
            <a:xfrm>
              <a:off x="210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14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B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14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0" y="2481480"/>
            <a:ext cx="1447920" cy="642600"/>
            <a:chOff x="0" y="2481480"/>
            <a:chExt cx="1447920" cy="642600"/>
          </a:xfrm>
        </p:grpSpPr>
        <p:sp>
          <p:nvSpPr>
            <p:cNvPr id="662" name=""/>
            <p:cNvSpPr/>
            <p:nvPr/>
          </p:nvSpPr>
          <p:spPr>
            <a:xfrm>
              <a:off x="210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G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4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0" y="2862360"/>
            <a:ext cx="1447920" cy="642600"/>
            <a:chOff x="0" y="2862360"/>
            <a:chExt cx="1447920" cy="642600"/>
          </a:xfrm>
        </p:grpSpPr>
        <p:sp>
          <p:nvSpPr>
            <p:cNvPr id="668" name=""/>
            <p:cNvSpPr/>
            <p:nvPr/>
          </p:nvSpPr>
          <p:spPr>
            <a:xfrm>
              <a:off x="210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14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C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14400" y="3087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0" y="3243240"/>
            <a:ext cx="1447920" cy="642600"/>
            <a:chOff x="0" y="3243240"/>
            <a:chExt cx="1447920" cy="642600"/>
          </a:xfrm>
        </p:grpSpPr>
        <p:sp>
          <p:nvSpPr>
            <p:cNvPr id="674" name=""/>
            <p:cNvSpPr/>
            <p:nvPr/>
          </p:nvSpPr>
          <p:spPr>
            <a:xfrm>
              <a:off x="210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14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144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010280" y="838080"/>
            <a:ext cx="1143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S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67280" y="838080"/>
            <a:ext cx="1143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V TROO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53280" y="838080"/>
            <a:ext cx="8384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0"/>
            <a:ext cx="9144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GE # OF #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3808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 EXAMPLE OPO 001/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808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NEX A TO HQ 1(UK) ARMD DI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 EXAMPLE OPO 001/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TG 01 1500 Z JAN 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1295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1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153280" y="1676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2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3280" y="2057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3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53280" y="2438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4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153280" y="2819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5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153280" y="32004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6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53280" y="3581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7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143000" y="684360"/>
            <a:ext cx="1447920" cy="642600"/>
            <a:chOff x="1143000" y="684360"/>
            <a:chExt cx="1447920" cy="642600"/>
          </a:xfrm>
        </p:grpSpPr>
        <p:sp>
          <p:nvSpPr>
            <p:cNvPr id="694" name=""/>
            <p:cNvSpPr/>
            <p:nvPr/>
          </p:nvSpPr>
          <p:spPr>
            <a:xfrm>
              <a:off x="1353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57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43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574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430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143000" y="1338480"/>
            <a:ext cx="1447920" cy="642600"/>
            <a:chOff x="1143000" y="1338480"/>
            <a:chExt cx="1447920" cy="642600"/>
          </a:xfrm>
        </p:grpSpPr>
        <p:sp>
          <p:nvSpPr>
            <p:cNvPr id="700" name=""/>
            <p:cNvSpPr/>
            <p:nvPr/>
          </p:nvSpPr>
          <p:spPr>
            <a:xfrm>
              <a:off x="1353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57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43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RT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57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43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143000" y="1719360"/>
            <a:ext cx="1447920" cy="642600"/>
            <a:chOff x="1143000" y="1719360"/>
            <a:chExt cx="1447920" cy="642600"/>
          </a:xfrm>
        </p:grpSpPr>
        <p:sp>
          <p:nvSpPr>
            <p:cNvPr id="706" name=""/>
            <p:cNvSpPr/>
            <p:nvPr/>
          </p:nvSpPr>
          <p:spPr>
            <a:xfrm>
              <a:off x="1353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57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43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R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57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143000" y="2100240"/>
            <a:ext cx="1447920" cy="642600"/>
            <a:chOff x="1143000" y="2100240"/>
            <a:chExt cx="1447920" cy="642600"/>
          </a:xfrm>
        </p:grpSpPr>
        <p:sp>
          <p:nvSpPr>
            <p:cNvPr id="712" name=""/>
            <p:cNvSpPr/>
            <p:nvPr/>
          </p:nvSpPr>
          <p:spPr>
            <a:xfrm>
              <a:off x="1353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7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RR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57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430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143000" y="2481480"/>
            <a:ext cx="1447920" cy="642600"/>
            <a:chOff x="1143000" y="2481480"/>
            <a:chExt cx="1447920" cy="642600"/>
          </a:xfrm>
        </p:grpSpPr>
        <p:sp>
          <p:nvSpPr>
            <p:cNvPr id="718" name=""/>
            <p:cNvSpPr/>
            <p:nvPr/>
          </p:nvSpPr>
          <p:spPr>
            <a:xfrm>
              <a:off x="1353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57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RIRIS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57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43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43000" y="2862360"/>
            <a:ext cx="1447920" cy="642600"/>
            <a:chOff x="1143000" y="2862360"/>
            <a:chExt cx="1447920" cy="642600"/>
          </a:xfrm>
        </p:grpSpPr>
        <p:sp>
          <p:nvSpPr>
            <p:cNvPr id="724" name=""/>
            <p:cNvSpPr/>
            <p:nvPr/>
          </p:nvSpPr>
          <p:spPr>
            <a:xfrm>
              <a:off x="1353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57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43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C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57400" y="3087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430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143000" y="3243240"/>
            <a:ext cx="1447920" cy="642600"/>
            <a:chOff x="1143000" y="3243240"/>
            <a:chExt cx="1447920" cy="642600"/>
          </a:xfrm>
        </p:grpSpPr>
        <p:sp>
          <p:nvSpPr>
            <p:cNvPr id="730" name=""/>
            <p:cNvSpPr/>
            <p:nvPr/>
          </p:nvSpPr>
          <p:spPr>
            <a:xfrm>
              <a:off x="1353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57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43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43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286000" y="684360"/>
            <a:ext cx="1447920" cy="642600"/>
            <a:chOff x="2286000" y="684360"/>
            <a:chExt cx="1447920" cy="642600"/>
          </a:xfrm>
        </p:grpSpPr>
        <p:sp>
          <p:nvSpPr>
            <p:cNvPr id="736" name=""/>
            <p:cNvSpPr/>
            <p:nvPr/>
          </p:nvSpPr>
          <p:spPr>
            <a:xfrm>
              <a:off x="2496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0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86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00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860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286000" y="1338480"/>
            <a:ext cx="1447920" cy="642600"/>
            <a:chOff x="2286000" y="1338480"/>
            <a:chExt cx="1447920" cy="642600"/>
          </a:xfrm>
        </p:grpSpPr>
        <p:sp>
          <p:nvSpPr>
            <p:cNvPr id="742" name=""/>
            <p:cNvSpPr/>
            <p:nvPr/>
          </p:nvSpPr>
          <p:spPr>
            <a:xfrm>
              <a:off x="2496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00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86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RT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00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286000" y="1719360"/>
            <a:ext cx="1447920" cy="642600"/>
            <a:chOff x="2286000" y="1719360"/>
            <a:chExt cx="1447920" cy="642600"/>
          </a:xfrm>
        </p:grpSpPr>
        <p:sp>
          <p:nvSpPr>
            <p:cNvPr id="748" name=""/>
            <p:cNvSpPr/>
            <p:nvPr/>
          </p:nvSpPr>
          <p:spPr>
            <a:xfrm>
              <a:off x="2496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00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D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00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86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286000" y="2100240"/>
            <a:ext cx="1447920" cy="642600"/>
            <a:chOff x="2286000" y="2100240"/>
            <a:chExt cx="1447920" cy="642600"/>
          </a:xfrm>
        </p:grpSpPr>
        <p:sp>
          <p:nvSpPr>
            <p:cNvPr id="754" name=""/>
            <p:cNvSpPr/>
            <p:nvPr/>
          </p:nvSpPr>
          <p:spPr>
            <a:xfrm>
              <a:off x="2496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0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PWR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0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860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286000" y="2481480"/>
            <a:ext cx="1447920" cy="642600"/>
            <a:chOff x="2286000" y="2481480"/>
            <a:chExt cx="1447920" cy="642600"/>
          </a:xfrm>
        </p:grpSpPr>
        <p:sp>
          <p:nvSpPr>
            <p:cNvPr id="760" name=""/>
            <p:cNvSpPr/>
            <p:nvPr/>
          </p:nvSpPr>
          <p:spPr>
            <a:xfrm>
              <a:off x="2496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00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RGB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00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6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286000" y="2862360"/>
            <a:ext cx="1447920" cy="642600"/>
            <a:chOff x="2286000" y="2862360"/>
            <a:chExt cx="1447920" cy="642600"/>
          </a:xfrm>
        </p:grpSpPr>
        <p:sp>
          <p:nvSpPr>
            <p:cNvPr id="766" name=""/>
            <p:cNvSpPr/>
            <p:nvPr/>
          </p:nvSpPr>
          <p:spPr>
            <a:xfrm>
              <a:off x="2496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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0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C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004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60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286000" y="3243240"/>
            <a:ext cx="1447920" cy="642600"/>
            <a:chOff x="2286000" y="3243240"/>
            <a:chExt cx="1447920" cy="642600"/>
          </a:xfrm>
        </p:grpSpPr>
        <p:sp>
          <p:nvSpPr>
            <p:cNvPr id="772" name=""/>
            <p:cNvSpPr/>
            <p:nvPr/>
          </p:nvSpPr>
          <p:spPr>
            <a:xfrm>
              <a:off x="2496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0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00400" y="34678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429000" y="684360"/>
            <a:ext cx="1447920" cy="642600"/>
            <a:chOff x="3429000" y="684360"/>
            <a:chExt cx="1447920" cy="642600"/>
          </a:xfrm>
        </p:grpSpPr>
        <p:sp>
          <p:nvSpPr>
            <p:cNvPr id="778" name=""/>
            <p:cNvSpPr/>
            <p:nvPr/>
          </p:nvSpPr>
          <p:spPr>
            <a:xfrm>
              <a:off x="3639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43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29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43400" y="909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290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3429000" y="1338480"/>
            <a:ext cx="1447920" cy="642600"/>
            <a:chOff x="3429000" y="1338480"/>
            <a:chExt cx="1447920" cy="642600"/>
          </a:xfrm>
        </p:grpSpPr>
        <p:sp>
          <p:nvSpPr>
            <p:cNvPr id="784" name=""/>
            <p:cNvSpPr/>
            <p:nvPr/>
          </p:nvSpPr>
          <p:spPr>
            <a:xfrm>
              <a:off x="3639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43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29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43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29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429000" y="1719360"/>
            <a:ext cx="1447920" cy="642600"/>
            <a:chOff x="3429000" y="1719360"/>
            <a:chExt cx="1447920" cy="642600"/>
          </a:xfrm>
        </p:grpSpPr>
        <p:sp>
          <p:nvSpPr>
            <p:cNvPr id="790" name=""/>
            <p:cNvSpPr/>
            <p:nvPr/>
          </p:nvSpPr>
          <p:spPr>
            <a:xfrm>
              <a:off x="3639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43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29000" y="2004840"/>
              <a:ext cx="533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A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G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43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29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429000" y="2100240"/>
            <a:ext cx="1447920" cy="642600"/>
            <a:chOff x="3429000" y="2100240"/>
            <a:chExt cx="1447920" cy="642600"/>
          </a:xfrm>
        </p:grpSpPr>
        <p:sp>
          <p:nvSpPr>
            <p:cNvPr id="796" name=""/>
            <p:cNvSpPr/>
            <p:nvPr/>
          </p:nvSpPr>
          <p:spPr>
            <a:xfrm>
              <a:off x="3639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43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29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43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290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429000" y="2481480"/>
            <a:ext cx="1447920" cy="642600"/>
            <a:chOff x="3429000" y="2481480"/>
            <a:chExt cx="1447920" cy="642600"/>
          </a:xfrm>
        </p:grpSpPr>
        <p:sp>
          <p:nvSpPr>
            <p:cNvPr id="802" name=""/>
            <p:cNvSpPr/>
            <p:nvPr/>
          </p:nvSpPr>
          <p:spPr>
            <a:xfrm>
              <a:off x="3639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43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29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AS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43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29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429000" y="2862360"/>
            <a:ext cx="1447920" cy="642600"/>
            <a:chOff x="3429000" y="2862360"/>
            <a:chExt cx="1447920" cy="642600"/>
          </a:xfrm>
        </p:grpSpPr>
        <p:sp>
          <p:nvSpPr>
            <p:cNvPr id="808" name=""/>
            <p:cNvSpPr/>
            <p:nvPr/>
          </p:nvSpPr>
          <p:spPr>
            <a:xfrm>
              <a:off x="3639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43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29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290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429000" y="3243240"/>
            <a:ext cx="1447920" cy="642600"/>
            <a:chOff x="3429000" y="3243240"/>
            <a:chExt cx="1447920" cy="642600"/>
          </a:xfrm>
        </p:grpSpPr>
        <p:sp>
          <p:nvSpPr>
            <p:cNvPr id="814" name=""/>
            <p:cNvSpPr/>
            <p:nvPr/>
          </p:nvSpPr>
          <p:spPr>
            <a:xfrm>
              <a:off x="3639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43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429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29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684360"/>
            <a:ext cx="1447920" cy="642600"/>
            <a:chOff x="4572000" y="684360"/>
            <a:chExt cx="1447920" cy="642600"/>
          </a:xfrm>
        </p:grpSpPr>
        <p:sp>
          <p:nvSpPr>
            <p:cNvPr id="820" name=""/>
            <p:cNvSpPr/>
            <p:nvPr/>
          </p:nvSpPr>
          <p:spPr>
            <a:xfrm>
              <a:off x="4782960" y="684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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864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1061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864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2000" y="907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72000" y="1338480"/>
            <a:ext cx="1447920" cy="642600"/>
            <a:chOff x="4572000" y="1338480"/>
            <a:chExt cx="1447920" cy="642600"/>
          </a:xfrm>
        </p:grpSpPr>
        <p:sp>
          <p:nvSpPr>
            <p:cNvPr id="826" name=""/>
            <p:cNvSpPr/>
            <p:nvPr/>
          </p:nvSpPr>
          <p:spPr>
            <a:xfrm>
              <a:off x="4782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86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72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RH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86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72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572000" y="1719360"/>
            <a:ext cx="1447920" cy="642600"/>
            <a:chOff x="4572000" y="1719360"/>
            <a:chExt cx="1447920" cy="642600"/>
          </a:xfrm>
        </p:grpSpPr>
        <p:sp>
          <p:nvSpPr>
            <p:cNvPr id="832" name=""/>
            <p:cNvSpPr/>
            <p:nvPr/>
          </p:nvSpPr>
          <p:spPr>
            <a:xfrm>
              <a:off x="4782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86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72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RH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86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72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572000" y="2100240"/>
            <a:ext cx="1447920" cy="642600"/>
            <a:chOff x="4572000" y="2100240"/>
            <a:chExt cx="1447920" cy="642600"/>
          </a:xfrm>
        </p:grpSpPr>
        <p:sp>
          <p:nvSpPr>
            <p:cNvPr id="838" name=""/>
            <p:cNvSpPr/>
            <p:nvPr/>
          </p:nvSpPr>
          <p:spPr>
            <a:xfrm>
              <a:off x="4782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86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72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86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20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572000" y="2481480"/>
            <a:ext cx="1447920" cy="642600"/>
            <a:chOff x="4572000" y="2481480"/>
            <a:chExt cx="1447920" cy="642600"/>
          </a:xfrm>
        </p:grpSpPr>
        <p:sp>
          <p:nvSpPr>
            <p:cNvPr id="844" name=""/>
            <p:cNvSpPr/>
            <p:nvPr/>
          </p:nvSpPr>
          <p:spPr>
            <a:xfrm>
              <a:off x="4782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6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72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86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2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572000" y="2862360"/>
            <a:ext cx="1447920" cy="642600"/>
            <a:chOff x="4572000" y="2862360"/>
            <a:chExt cx="1447920" cy="642600"/>
          </a:xfrm>
        </p:grpSpPr>
        <p:sp>
          <p:nvSpPr>
            <p:cNvPr id="850" name=""/>
            <p:cNvSpPr/>
            <p:nvPr/>
          </p:nvSpPr>
          <p:spPr>
            <a:xfrm>
              <a:off x="4782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86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864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720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715000" y="1338480"/>
            <a:ext cx="1447920" cy="642600"/>
            <a:chOff x="5715000" y="1338480"/>
            <a:chExt cx="1447920" cy="642600"/>
          </a:xfrm>
        </p:grpSpPr>
        <p:sp>
          <p:nvSpPr>
            <p:cNvPr id="856" name=""/>
            <p:cNvSpPr/>
            <p:nvPr/>
          </p:nvSpPr>
          <p:spPr>
            <a:xfrm>
              <a:off x="5925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29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15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29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15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5715000" y="1719360"/>
            <a:ext cx="1447920" cy="642600"/>
            <a:chOff x="5715000" y="1719360"/>
            <a:chExt cx="1447920" cy="642600"/>
          </a:xfrm>
        </p:grpSpPr>
        <p:sp>
          <p:nvSpPr>
            <p:cNvPr id="862" name=""/>
            <p:cNvSpPr/>
            <p:nvPr/>
          </p:nvSpPr>
          <p:spPr>
            <a:xfrm>
              <a:off x="5925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29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715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JNBC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1944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7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715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715000" y="2100240"/>
            <a:ext cx="1447920" cy="642600"/>
            <a:chOff x="5715000" y="2100240"/>
            <a:chExt cx="1447920" cy="642600"/>
          </a:xfrm>
        </p:grpSpPr>
        <p:sp>
          <p:nvSpPr>
            <p:cNvPr id="868" name=""/>
            <p:cNvSpPr/>
            <p:nvPr/>
          </p:nvSpPr>
          <p:spPr>
            <a:xfrm>
              <a:off x="5925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29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15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29400" y="23248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8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15000" y="23248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X 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715000" y="2481480"/>
            <a:ext cx="1447920" cy="642600"/>
            <a:chOff x="5715000" y="2481480"/>
            <a:chExt cx="1447920" cy="642600"/>
          </a:xfrm>
        </p:grpSpPr>
        <p:sp>
          <p:nvSpPr>
            <p:cNvPr id="874" name=""/>
            <p:cNvSpPr/>
            <p:nvPr/>
          </p:nvSpPr>
          <p:spPr>
            <a:xfrm>
              <a:off x="5925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29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15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94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15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715000" y="2862360"/>
            <a:ext cx="1447920" cy="642600"/>
            <a:chOff x="5715000" y="2862360"/>
            <a:chExt cx="1447920" cy="642600"/>
          </a:xfrm>
        </p:grpSpPr>
        <p:sp>
          <p:nvSpPr>
            <p:cNvPr id="880" name=""/>
            <p:cNvSpPr/>
            <p:nvPr/>
          </p:nvSpPr>
          <p:spPr>
            <a:xfrm>
              <a:off x="5925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29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15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294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15000" y="3087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O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715000" y="3243240"/>
            <a:ext cx="1447920" cy="642600"/>
            <a:chOff x="5715000" y="3243240"/>
            <a:chExt cx="1447920" cy="642600"/>
          </a:xfrm>
        </p:grpSpPr>
        <p:sp>
          <p:nvSpPr>
            <p:cNvPr id="886" name=""/>
            <p:cNvSpPr/>
            <p:nvPr/>
          </p:nvSpPr>
          <p:spPr>
            <a:xfrm>
              <a:off x="5925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29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15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29400" y="34678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15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715000" y="4005360"/>
            <a:ext cx="1447920" cy="642600"/>
            <a:chOff x="5715000" y="4005360"/>
            <a:chExt cx="1447920" cy="642600"/>
          </a:xfrm>
        </p:grpSpPr>
        <p:sp>
          <p:nvSpPr>
            <p:cNvPr id="892" name=""/>
            <p:cNvSpPr/>
            <p:nvPr/>
          </p:nvSpPr>
          <p:spPr>
            <a:xfrm>
              <a:off x="5925960" y="4005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294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I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150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294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150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5715000" y="4386240"/>
            <a:ext cx="1447920" cy="642600"/>
            <a:chOff x="5715000" y="4386240"/>
            <a:chExt cx="1447920" cy="642600"/>
          </a:xfrm>
        </p:grpSpPr>
        <p:sp>
          <p:nvSpPr>
            <p:cNvPr id="898" name=""/>
            <p:cNvSpPr/>
            <p:nvPr/>
          </p:nvSpPr>
          <p:spPr>
            <a:xfrm>
              <a:off x="5925960" y="4386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29400" y="4763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15000" y="4763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29400" y="4609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15000" y="4609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715000" y="4767480"/>
            <a:ext cx="1447920" cy="642600"/>
            <a:chOff x="5715000" y="4767480"/>
            <a:chExt cx="1447920" cy="642600"/>
          </a:xfrm>
        </p:grpSpPr>
        <p:sp>
          <p:nvSpPr>
            <p:cNvPr id="904" name=""/>
            <p:cNvSpPr/>
            <p:nvPr/>
          </p:nvSpPr>
          <p:spPr>
            <a:xfrm>
              <a:off x="5925960" y="4767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29400" y="5144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SYOP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15000" y="5144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INF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9400" y="4991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15000" y="4991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715000" y="5148360"/>
            <a:ext cx="1447920" cy="642600"/>
            <a:chOff x="5715000" y="5148360"/>
            <a:chExt cx="1447920" cy="642600"/>
          </a:xfrm>
        </p:grpSpPr>
        <p:sp>
          <p:nvSpPr>
            <p:cNvPr id="910" name=""/>
            <p:cNvSpPr/>
            <p:nvPr/>
          </p:nvSpPr>
          <p:spPr>
            <a:xfrm>
              <a:off x="5925960" y="5148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29400" y="5525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C S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15000" y="5525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29400" y="5371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15000" y="5371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505320" y="2286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 EXAMPLE BASE TASK 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858000" y="1338480"/>
            <a:ext cx="1447920" cy="642600"/>
            <a:chOff x="6858000" y="1338480"/>
            <a:chExt cx="1447920" cy="642600"/>
          </a:xfrm>
        </p:grpSpPr>
        <p:sp>
          <p:nvSpPr>
            <p:cNvPr id="917" name=""/>
            <p:cNvSpPr/>
            <p:nvPr/>
          </p:nvSpPr>
          <p:spPr>
            <a:xfrm>
              <a:off x="7068960" y="1338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724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58000" y="1715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C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724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58000" y="1562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858000" y="1719360"/>
            <a:ext cx="1447920" cy="642600"/>
            <a:chOff x="6858000" y="1719360"/>
            <a:chExt cx="1447920" cy="642600"/>
          </a:xfrm>
        </p:grpSpPr>
        <p:sp>
          <p:nvSpPr>
            <p:cNvPr id="923" name=""/>
            <p:cNvSpPr/>
            <p:nvPr/>
          </p:nvSpPr>
          <p:spPr>
            <a:xfrm>
              <a:off x="7068960" y="1719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724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58000" y="2096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724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58000" y="1942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858000" y="2100240"/>
            <a:ext cx="1447920" cy="642600"/>
            <a:chOff x="6858000" y="2100240"/>
            <a:chExt cx="1447920" cy="642600"/>
          </a:xfrm>
        </p:grpSpPr>
        <p:sp>
          <p:nvSpPr>
            <p:cNvPr id="929" name=""/>
            <p:cNvSpPr/>
            <p:nvPr/>
          </p:nvSpPr>
          <p:spPr>
            <a:xfrm>
              <a:off x="7068960" y="2100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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724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858000" y="2477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724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58000" y="2323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6858000" y="2481480"/>
            <a:ext cx="1447920" cy="642600"/>
            <a:chOff x="6858000" y="2481480"/>
            <a:chExt cx="1447920" cy="642600"/>
          </a:xfrm>
        </p:grpSpPr>
        <p:sp>
          <p:nvSpPr>
            <p:cNvPr id="935" name=""/>
            <p:cNvSpPr/>
            <p:nvPr/>
          </p:nvSpPr>
          <p:spPr>
            <a:xfrm>
              <a:off x="7068960" y="2481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7724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58000" y="2858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772400" y="270612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58000" y="2705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858000" y="2862360"/>
            <a:ext cx="1447920" cy="642600"/>
            <a:chOff x="6858000" y="2862360"/>
            <a:chExt cx="1447920" cy="642600"/>
          </a:xfrm>
        </p:grpSpPr>
        <p:sp>
          <p:nvSpPr>
            <p:cNvPr id="941" name=""/>
            <p:cNvSpPr/>
            <p:nvPr/>
          </p:nvSpPr>
          <p:spPr>
            <a:xfrm>
              <a:off x="7068960" y="2862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724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58000" y="3239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724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58000" y="3085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6858000" y="3243240"/>
            <a:ext cx="1447920" cy="642600"/>
            <a:chOff x="6858000" y="3243240"/>
            <a:chExt cx="1447920" cy="642600"/>
          </a:xfrm>
        </p:grpSpPr>
        <p:sp>
          <p:nvSpPr>
            <p:cNvPr id="947" name=""/>
            <p:cNvSpPr/>
            <p:nvPr/>
          </p:nvSpPr>
          <p:spPr>
            <a:xfrm>
              <a:off x="7068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772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58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724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858000" y="3624480"/>
            <a:ext cx="1447920" cy="642600"/>
            <a:chOff x="6858000" y="3624480"/>
            <a:chExt cx="1447920" cy="642600"/>
          </a:xfrm>
        </p:grpSpPr>
        <p:sp>
          <p:nvSpPr>
            <p:cNvPr id="953" name=""/>
            <p:cNvSpPr/>
            <p:nvPr/>
          </p:nvSpPr>
          <p:spPr>
            <a:xfrm>
              <a:off x="7068960" y="36244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72400" y="4001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58000" y="40014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72400" y="3848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58000" y="38480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858000" y="4005360"/>
            <a:ext cx="1447920" cy="642600"/>
            <a:chOff x="6858000" y="4005360"/>
            <a:chExt cx="1447920" cy="642600"/>
          </a:xfrm>
        </p:grpSpPr>
        <p:sp>
          <p:nvSpPr>
            <p:cNvPr id="959" name=""/>
            <p:cNvSpPr/>
            <p:nvPr/>
          </p:nvSpPr>
          <p:spPr>
            <a:xfrm>
              <a:off x="7068960" y="4005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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724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(UK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80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72400" y="42300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572000" y="3243240"/>
            <a:ext cx="1447920" cy="642600"/>
            <a:chOff x="4572000" y="3243240"/>
            <a:chExt cx="1447920" cy="642600"/>
          </a:xfrm>
        </p:grpSpPr>
        <p:sp>
          <p:nvSpPr>
            <p:cNvPr id="965" name=""/>
            <p:cNvSpPr/>
            <p:nvPr/>
          </p:nvSpPr>
          <p:spPr>
            <a:xfrm>
              <a:off x="4782960" y="32432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64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S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72000" y="36201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C G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64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2000" y="34668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8153280" y="3962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(8) This is an example note attached to the TaskOrg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38919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95280" y="38919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8280" y="38919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0" y="4005360"/>
            <a:ext cx="1447920" cy="642600"/>
            <a:chOff x="0" y="4005360"/>
            <a:chExt cx="1447920" cy="642600"/>
          </a:xfrm>
        </p:grpSpPr>
        <p:sp>
          <p:nvSpPr>
            <p:cNvPr id="975" name=""/>
            <p:cNvSpPr/>
            <p:nvPr/>
          </p:nvSpPr>
          <p:spPr>
            <a:xfrm>
              <a:off x="210960" y="4005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144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44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143000" y="4005360"/>
            <a:ext cx="1447920" cy="642600"/>
            <a:chOff x="1143000" y="4005360"/>
            <a:chExt cx="1447920" cy="642600"/>
          </a:xfrm>
        </p:grpSpPr>
        <p:sp>
          <p:nvSpPr>
            <p:cNvPr id="981" name=""/>
            <p:cNvSpPr/>
            <p:nvPr/>
          </p:nvSpPr>
          <p:spPr>
            <a:xfrm>
              <a:off x="1353960" y="4005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574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430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574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430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286000" y="4005360"/>
            <a:ext cx="1447920" cy="642600"/>
            <a:chOff x="2286000" y="4005360"/>
            <a:chExt cx="1447920" cy="642600"/>
          </a:xfrm>
        </p:grpSpPr>
        <p:sp>
          <p:nvSpPr>
            <p:cNvPr id="987" name=""/>
            <p:cNvSpPr/>
            <p:nvPr/>
          </p:nvSpPr>
          <p:spPr>
            <a:xfrm>
              <a:off x="2496960" y="40053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004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0" y="43822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04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0" y="42289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5867280" y="38919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P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0" y="4418280"/>
            <a:ext cx="1447920" cy="642600"/>
            <a:chOff x="0" y="4418280"/>
            <a:chExt cx="1447920" cy="642600"/>
          </a:xfrm>
        </p:grpSpPr>
        <p:sp>
          <p:nvSpPr>
            <p:cNvPr id="994" name=""/>
            <p:cNvSpPr/>
            <p:nvPr/>
          </p:nvSpPr>
          <p:spPr>
            <a:xfrm>
              <a:off x="210960" y="4418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40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43000" y="4418280"/>
            <a:ext cx="1447920" cy="642600"/>
            <a:chOff x="1143000" y="4418280"/>
            <a:chExt cx="1447920" cy="642600"/>
          </a:xfrm>
        </p:grpSpPr>
        <p:sp>
          <p:nvSpPr>
            <p:cNvPr id="1000" name=""/>
            <p:cNvSpPr/>
            <p:nvPr/>
          </p:nvSpPr>
          <p:spPr>
            <a:xfrm>
              <a:off x="1353960" y="4418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5740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4300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5740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4300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286000" y="4418280"/>
            <a:ext cx="1447920" cy="642600"/>
            <a:chOff x="2286000" y="4418280"/>
            <a:chExt cx="1447920" cy="642600"/>
          </a:xfrm>
        </p:grpSpPr>
        <p:sp>
          <p:nvSpPr>
            <p:cNvPr id="1006" name=""/>
            <p:cNvSpPr/>
            <p:nvPr/>
          </p:nvSpPr>
          <p:spPr>
            <a:xfrm>
              <a:off x="2496960" y="441828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0040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86000" y="479520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0040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86000" y="464184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0" y="4843440"/>
            <a:ext cx="1447920" cy="642600"/>
            <a:chOff x="0" y="4843440"/>
            <a:chExt cx="1447920" cy="642600"/>
          </a:xfrm>
        </p:grpSpPr>
        <p:sp>
          <p:nvSpPr>
            <p:cNvPr id="1012" name=""/>
            <p:cNvSpPr/>
            <p:nvPr/>
          </p:nvSpPr>
          <p:spPr>
            <a:xfrm>
              <a:off x="210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4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C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1440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1143000" y="4843440"/>
            <a:ext cx="1447920" cy="642600"/>
            <a:chOff x="1143000" y="4843440"/>
            <a:chExt cx="1447920" cy="642600"/>
          </a:xfrm>
        </p:grpSpPr>
        <p:sp>
          <p:nvSpPr>
            <p:cNvPr id="1018" name=""/>
            <p:cNvSpPr/>
            <p:nvPr/>
          </p:nvSpPr>
          <p:spPr>
            <a:xfrm>
              <a:off x="1353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57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C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43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740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4300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286000" y="4843440"/>
            <a:ext cx="1447920" cy="642600"/>
            <a:chOff x="2286000" y="4843440"/>
            <a:chExt cx="1447920" cy="642600"/>
          </a:xfrm>
        </p:grpSpPr>
        <p:sp>
          <p:nvSpPr>
            <p:cNvPr id="1024" name=""/>
            <p:cNvSpPr/>
            <p:nvPr/>
          </p:nvSpPr>
          <p:spPr>
            <a:xfrm>
              <a:off x="2496960" y="484344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004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C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86000" y="522036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0040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86000" y="506700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152280" y="54921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A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0" y="5605560"/>
            <a:ext cx="1447920" cy="642600"/>
            <a:chOff x="0" y="5605560"/>
            <a:chExt cx="1447920" cy="642600"/>
          </a:xfrm>
        </p:grpSpPr>
        <p:sp>
          <p:nvSpPr>
            <p:cNvPr id="1031" name=""/>
            <p:cNvSpPr/>
            <p:nvPr/>
          </p:nvSpPr>
          <p:spPr>
            <a:xfrm>
              <a:off x="210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14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JNBC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14400" y="58291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58291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295280" y="5492160"/>
            <a:ext cx="1143000" cy="18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A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1143000" y="5605560"/>
            <a:ext cx="1447920" cy="642600"/>
            <a:chOff x="1143000" y="5605560"/>
            <a:chExt cx="1447920" cy="642600"/>
          </a:xfrm>
        </p:grpSpPr>
        <p:sp>
          <p:nvSpPr>
            <p:cNvPr id="1038" name=""/>
            <p:cNvSpPr/>
            <p:nvPr/>
          </p:nvSpPr>
          <p:spPr>
            <a:xfrm>
              <a:off x="1353960" y="5605560"/>
              <a:ext cx="10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apSym-FR-Land"/>
                  <a:ea typeface="MapSym-FR-Land"/>
                </a:rPr>
                <a:t>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574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JNBC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43000" y="5982480"/>
              <a:ext cx="53352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57400" y="58291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43000" y="5829120"/>
              <a:ext cx="533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43:05Z</dcterms:created>
  <dc:creator>Tom Mouat</dc:creator>
  <dc:description/>
  <dc:language>en-US</dc:language>
  <cp:lastModifiedBy>Tom Mouat</cp:lastModifiedBy>
  <cp:lastPrinted>2003-03-24T15:41:41Z</cp:lastPrinted>
  <dcterms:modified xsi:type="dcterms:W3CDTF">2003-03-24T15:45:07Z</dcterms:modified>
  <cp:revision>11</cp:revision>
  <dc:subject/>
  <dc:title>No Slide Title</dc:title>
</cp:coreProperties>
</file>